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E54-0FB6-4A4E-9928-79279B84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037-CC5E-4221-B390-A22788DF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DC0-01B1-4E00-B180-1CADF100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61D-24CC-418E-B8B7-0AFFB2AC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497-F848-4459-A64F-87FAD12F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1AB-5BD9-482C-AA91-2BC948C9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32E-CF22-4F5A-B58E-019DCC0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3A9-0595-471F-81B2-9E9639B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0AA-21AB-4911-84C1-D2C719A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9C5-18C0-4565-B029-F32428D2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9A9-5F31-4E66-B983-5131946B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41D-8AA1-4747-B761-8A38EF7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3F5-B17E-4B65-91BE-2459A2802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355760"/>
            <a:ext cx="464832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 رعاة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ّ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هل جرى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مر غر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رو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ش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ا هذا السّر العج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355760"/>
            <a:ext cx="533412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يتَ لحم مَن أَت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غدا فيكِ مُق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ب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زالَ شَق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ه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مولى العظ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55760"/>
            <a:ext cx="502920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علِمو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كلّ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عِبادِ، بَشّ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ي العالم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قد أتا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يوم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دي،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بشِ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ؤمن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9:19:47Z</dcterms:created>
  <dc:creator>Pere</dc:creator>
  <dc:description/>
  <dc:language>en-US</dc:language>
  <cp:lastModifiedBy>Esmat</cp:lastModifiedBy>
  <dcterms:modified xsi:type="dcterms:W3CDTF">2006-12-06T08:35:16Z</dcterms:modified>
  <cp:revision>3</cp:revision>
  <dc:subject/>
  <dc:title>Slide 1</dc:title>
</cp:coreProperties>
</file>